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2B56-475D-42AF-BBBB-2CBA1820E4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C165-A273-4EC8-8D18-E51860B4C9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24F-11A4-4ABA-982D-CE5594D4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D31-D888-481B-BA82-36B8E0A7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19E-98EB-4A1F-A822-C340A832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6EB-B235-4CD2-9E50-230E7B66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E61B-8912-4AE1-A38C-BEC70EA6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227-E75F-4942-AD28-E69B3227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3F87-3D23-49EF-A019-EC954A08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9E0C-F72B-40F0-95D4-394FE24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6407-4EC1-4D40-9F38-3E424D08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8919-FFEB-4153-866B-6AC11BD4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7430-1A4A-4AE6-81B6-C1D9DF2C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A46-829E-4B78-BFF2-95CB050D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24B4-78E6-4143-8AAF-AE2181DA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9417-5580-46BF-8F42-F36E2152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9C6C-0379-4074-BCF4-B1C0F478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984-81E6-4C5F-B70D-B2FB198B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C9F9-1A0B-41D8-B8D3-A3740D7D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CEF6D-919E-4041-8818-A0E04644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B6434-CACC-476D-ABBA-7D0BE491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D7562-D530-4035-86A2-F54A3947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DACA1-345E-4C51-AF06-B584E6D2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83EAE-65BC-4F15-B989-B55CB4A9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A87-8723-473B-BFFB-231912F8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A62BA-7714-4CDF-9D54-3653D13C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1D719-4708-4F3A-B601-F87D407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BACD6-A346-4DE9-A7B1-5365BC0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CB59A-B396-4C40-8DBB-0D301BF2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93E3F-57C2-45C7-B66F-A5C21A0D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63566-CA39-4D19-8F6C-5D2C46DE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869A6-8E32-4147-88D8-DE620CA6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293F-E769-435F-884C-56BFA86C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B6C1-A51D-4A61-842A-4E6E7955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5E2D-8C9E-4E0F-83FE-6FD61282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5C3-2843-4AD1-A848-F9036065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D257-C34E-4285-A370-F762A865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B32F4-FD2F-4D28-807F-7CE79481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721D-8875-41A7-A101-5F19F7A8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1645-66F9-42E4-AD6F-C5DD8F58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D64C6-7EFB-4D9C-992A-11DA1D8A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81E6-93F9-482E-B8AC-FF8A073F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FC1C6-851E-424D-A3DF-E0971961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35DB8-4233-4911-9A98-447956E0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68413-5DB7-4A23-A92B-D4901BC7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56D-63E0-474A-AF82-8C355EF9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6C7-40CC-488A-A992-B60CF8BD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D09-F939-4E06-9AB5-445F0CC0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28A-ED99-4687-878E-A9F979D8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85F-EE98-4E74-943A-85358FB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371C-362F-43D5-8490-F7707FC783A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D252-8F28-4F88-80A0-B30F60ED322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69B9-A5A7-451E-8757-270804E3363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E45B-C811-41ED-8A91-E7F17DCFADA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rugosvet.ru/enc/Earth_sciences/geologiya/ATLANTICH" TargetMode="External"/><Relationship Id="rId2" Type="http://schemas.openxmlformats.org/officeDocument/2006/relationships/hyperlink" Target="http://www.privateers.ru/notorious-persons/columbus.html" TargetMode="External"/><Relationship Id="rId3" Type="http://schemas.openxmlformats.org/officeDocument/2006/relationships/hyperlink" Target="https://olkpeace.org/forum/viewtopic.php?f=51&amp;t=63808&amp;start=30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11280" y="2492280"/>
            <a:ext cx="7705800" cy="158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7030a0"/>
                </a:solidFill>
                <a:latin typeface="Arial"/>
              </a:rPr>
              <a:t>Атлантический океан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7030a0"/>
              </a:solidFill>
              <a:latin typeface="Arial"/>
              <a:ea typeface="Arial"/>
            </a:endParaRPr>
          </a:p>
        </p:txBody>
      </p:sp>
      <p:sp>
        <p:nvSpPr>
          <p:cNvPr id="222" name="Содержимое 2"/>
          <p:cNvSpPr/>
          <p:nvPr/>
        </p:nvSpPr>
        <p:spPr>
          <a:xfrm>
            <a:off x="4572000" y="4508640"/>
            <a:ext cx="41148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Georgia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иколаенко Т.Ф., учитель географии МБОУ СОШ №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rebuchet MS"/>
              </a:rPr>
              <a:t>Температура и соленость океан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539640" y="46339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Средняя  соленость  Атлантического  океана  -  34,87‰,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средняя  соленость его  поверхностных  вод – 35,3‰,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 максимальная – более  37,5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317520" y="1355760"/>
            <a:ext cx="828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мпература поверхностных   вод в Атлантике  в  среднем  ниже,   чем    в    Тихом   и  Индийском    океан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яется это охлаждающим влиянием вод и льдов, выносимых из Северного Ледовитого океана и из Антарктики, а также интенсивным перемешиванием водных масс. Значительные   различия   между   температурой   воды  и  воздуха    в    некоторых     районах     вызывают     образование  сильных  тума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6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0" dur="12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12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Климат Атлантического океана</a:t>
            </a:r>
            <a:r>
              <a:rPr b="0" lang="ru-RU" sz="3600" spc="-1" strike="noStrike">
                <a:solidFill>
                  <a:srgbClr val="7030a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Picture 3" descr="Климат Атлантического океана"/>
          <p:cNvPicPr/>
          <p:nvPr/>
        </p:nvPicPr>
        <p:blipFill>
          <a:blip r:embed="rId1"/>
          <a:stretch/>
        </p:blipFill>
        <p:spPr>
          <a:xfrm>
            <a:off x="857160" y="1000080"/>
            <a:ext cx="7239240" cy="53816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5796000" y="5300640"/>
            <a:ext cx="3195720" cy="117648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Атлантический оке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-самый солены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океан Зем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718800" y="441000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-62532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200400" y="1295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177840" y="988920"/>
            <a:ext cx="2114640" cy="1131840"/>
          </a:xfrm>
          <a:prstGeom prst="wedgeRectCallout">
            <a:avLst>
              <a:gd name="adj1" fmla="val 77546"/>
              <a:gd name="adj2" fmla="val 194791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Зона тропических цикло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42600" y="5071680"/>
            <a:ext cx="80010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108000" y="476280"/>
            <a:ext cx="3959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Течения в Атлантике в отличии от Тихого и Индийского океанов  направлены не по широте , а почти вдоль меридианов. Течения  в Атлантическом океане,  активнее чем в других океанах, переносят водные массы, а с ними тепло и холод из одних широт в другие. Течения влияют и на  ледовые усло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Picture 20" descr="Безимени-1"/>
          <p:cNvPicPr/>
          <p:nvPr/>
        </p:nvPicPr>
        <p:blipFill>
          <a:blip r:embed="rId1"/>
          <a:stretch/>
        </p:blipFill>
        <p:spPr>
          <a:xfrm>
            <a:off x="4098960" y="1077840"/>
            <a:ext cx="4651200" cy="4616640"/>
          </a:xfrm>
          <a:prstGeom prst="rect">
            <a:avLst/>
          </a:prstGeom>
          <a:ln w="0">
            <a:noFill/>
          </a:ln>
        </p:spPr>
      </p:pic>
      <p:pic>
        <p:nvPicPr>
          <p:cNvPr id="270" name="WordArt 14" descr=""/>
          <p:cNvPicPr/>
          <p:nvPr/>
        </p:nvPicPr>
        <p:blipFill>
          <a:blip r:embed="rId2"/>
          <a:stretch/>
        </p:blipFill>
        <p:spPr>
          <a:xfrm>
            <a:off x="5230800" y="1639800"/>
            <a:ext cx="3151080" cy="2292480"/>
          </a:xfrm>
          <a:prstGeom prst="rect">
            <a:avLst/>
          </a:prstGeom>
          <a:ln w="0">
            <a:noFill/>
          </a:ln>
        </p:spPr>
      </p:pic>
      <p:sp>
        <p:nvSpPr>
          <p:cNvPr id="271" name="Line 13"/>
          <p:cNvSpPr/>
          <p:nvPr/>
        </p:nvSpPr>
        <p:spPr>
          <a:xfrm flipH="1">
            <a:off x="7000560" y="2857680"/>
            <a:ext cx="431640" cy="714240"/>
          </a:xfrm>
          <a:prstGeom prst="line">
            <a:avLst/>
          </a:prstGeom>
          <a:ln w="57240">
            <a:solidFill>
              <a:srgbClr val="3133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5"/>
          <p:cNvSpPr/>
          <p:nvPr/>
        </p:nvSpPr>
        <p:spPr>
          <a:xfrm flipH="1">
            <a:off x="6500520" y="3500280"/>
            <a:ext cx="500040" cy="28584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6"/>
          <p:cNvSpPr/>
          <p:nvPr/>
        </p:nvSpPr>
        <p:spPr>
          <a:xfrm flipH="1" flipV="1">
            <a:off x="4857480" y="3286080"/>
            <a:ext cx="672840" cy="49680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6"/>
          <p:cNvSpPr/>
          <p:nvPr/>
        </p:nvSpPr>
        <p:spPr>
          <a:xfrm flipH="1">
            <a:off x="5643360" y="3786120"/>
            <a:ext cx="849240" cy="5076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9"/>
          <p:cNvSpPr/>
          <p:nvPr/>
        </p:nvSpPr>
        <p:spPr>
          <a:xfrm flipV="1">
            <a:off x="4734000" y="2397240"/>
            <a:ext cx="1190520" cy="90000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WordArt 10"/>
          <p:cNvSpPr txBox="1"/>
          <p:nvPr/>
        </p:nvSpPr>
        <p:spPr>
          <a:xfrm>
            <a:off x="4583160" y="230652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Гольфстри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5940360" y="1628640"/>
            <a:ext cx="1871640" cy="7351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WordArt 12"/>
          <p:cNvSpPr txBox="1"/>
          <p:nvPr/>
        </p:nvSpPr>
        <p:spPr>
          <a:xfrm rot="20685600">
            <a:off x="5643360" y="1536480"/>
            <a:ext cx="18288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веро-Атлантическое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1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1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50"/>
                            </p:stCondLst>
                            <p:childTnLst>
                              <p:par>
                                <p:cTn id="2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6"/>
          <p:cNvSpPr/>
          <p:nvPr/>
        </p:nvSpPr>
        <p:spPr>
          <a:xfrm>
            <a:off x="1116000" y="40464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Особенности океана – многочисленные айсберги и плавучий морской лё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7" descr="&amp;Kcy;&amp;acy;&amp;rcy;&amp;scy;&amp;kcy;&amp;ocy;&amp;iecy; &amp;mcy;&amp;ocy;&amp;rcy;&amp;iecy; &amp;vcy;&amp;icy;&amp;dcy;&amp;iecy;&amp;ocy; &amp;kcy;&amp;acy;&amp;rcy;&amp;tcy;&amp;icy;&amp;ncy;&amp;kcy;&amp;icy; &amp;fcy;&amp;ocy;&amp;tcy;&amp;ocy;"/>
          <p:cNvPicPr/>
          <p:nvPr/>
        </p:nvPicPr>
        <p:blipFill>
          <a:blip r:embed="rId1"/>
          <a:stretch/>
        </p:blipFill>
        <p:spPr>
          <a:xfrm>
            <a:off x="1000080" y="1428840"/>
            <a:ext cx="7500960" cy="50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60721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Титаник.jpg"/>
          <p:cNvPicPr/>
          <p:nvPr/>
        </p:nvPicPr>
        <p:blipFill>
          <a:blip r:embed="rId2"/>
          <a:stretch/>
        </p:blipFill>
        <p:spPr>
          <a:xfrm>
            <a:off x="5715000" y="1000080"/>
            <a:ext cx="2500200" cy="17272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6"/>
          <p:cNvSpPr/>
          <p:nvPr/>
        </p:nvSpPr>
        <p:spPr>
          <a:xfrm>
            <a:off x="539640" y="404640"/>
            <a:ext cx="5000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Трагедия    «Титаника»,  которы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   полном    ходу  столкнулся  с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айсбергом, привела к учреждени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Международного ледового патрул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который  сообщает  всем судам о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размерах, координатах    и    путях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дрейфа  айсберго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785880" y="542916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Течения выносят айсберги в открытый океан до 4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Georgia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с.ш.  Эти  районы  Атлантики  опасны для  судоходства</a:t>
            </a:r>
            <a:r>
              <a:rPr b="0" lang="ru-RU" sz="2400" spc="-1" strike="noStrike">
                <a:solidFill>
                  <a:srgbClr val="ffff00"/>
                </a:solidFill>
                <a:latin typeface="Georgia"/>
              </a:rPr>
              <a:t>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0" dur="1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"/>
                            </p:stCondLst>
                            <p:childTnLst>
                              <p:par>
                                <p:cTn id="252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4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28440" y="3141720"/>
            <a:ext cx="4680000" cy="34322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760" y="-171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рганический мир Атлантического океан</a:t>
            </a:r>
            <a:r>
              <a:rPr b="0" lang="ru-RU" sz="3600" spc="-1" strike="noStrike">
                <a:solidFill>
                  <a:srgbClr val="7030a0"/>
                </a:solidFill>
                <a:latin typeface="Georgia"/>
              </a:rPr>
              <a:t>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395280" y="90792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Атлантический  океан  богат  промысловыми  видами  рыб: сельдью, морским  окунем, треской, скумбрией, мойвой и другими. Встречаются  акулы, киты, тюлени. Район  Канарских  островов  богат  лангустами  и анчоусами. В  северной  части  встречаются  мор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ежи, моллюс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Picture 7" descr="http://fotozveri.ru/vvode/28109.jpg"/>
          <p:cNvPicPr/>
          <p:nvPr/>
        </p:nvPicPr>
        <p:blipFill>
          <a:blip r:embed="rId2"/>
          <a:stretch/>
        </p:blipFill>
        <p:spPr>
          <a:xfrm>
            <a:off x="4765680" y="3214800"/>
            <a:ext cx="43783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-357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785880" y="3571920"/>
            <a:ext cx="3095640" cy="2776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&amp;mcy;&amp;ocy;&amp;rcy;&amp;scy;&amp;kcy;&amp;acy;&amp;yacy; &amp;rcy;&amp;ycy;&amp;bcy;&amp;acy;"/>
          <p:cNvPicPr/>
          <p:nvPr/>
        </p:nvPicPr>
        <p:blipFill>
          <a:blip r:embed="rId2"/>
          <a:stretch/>
        </p:blipFill>
        <p:spPr>
          <a:xfrm>
            <a:off x="4500720" y="3714840"/>
            <a:ext cx="3786120" cy="2847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&amp;rcy;&amp;ycy;&amp;bcy;&amp;kcy;&amp;acy;"/>
          <p:cNvPicPr/>
          <p:nvPr/>
        </p:nvPicPr>
        <p:blipFill>
          <a:blip r:embed="rId3"/>
          <a:stretch/>
        </p:blipFill>
        <p:spPr>
          <a:xfrm>
            <a:off x="1143000" y="357120"/>
            <a:ext cx="3857760" cy="2900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&amp;pcy;&amp;rcy;&amp;iecy;&amp;scy;&amp;ncy;&amp;ocy;&amp;vcy;&amp;ocy;&amp;dcy;&amp;ncy;&amp;acy;&amp;yacy; &amp;rcy;&amp;ycy;&amp;bcy;&amp;acy;"/>
          <p:cNvPicPr/>
          <p:nvPr/>
        </p:nvPicPr>
        <p:blipFill>
          <a:blip r:embed="rId4"/>
          <a:stretch/>
        </p:blipFill>
        <p:spPr>
          <a:xfrm>
            <a:off x="5072040" y="857160"/>
            <a:ext cx="3807000" cy="286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Заголовок 1"/>
          <p:cNvSpPr/>
          <p:nvPr/>
        </p:nvSpPr>
        <p:spPr>
          <a:xfrm>
            <a:off x="609480" y="444600"/>
            <a:ext cx="80773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Хозяйственная 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 в Атлантическом океан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50920" y="1628640"/>
            <a:ext cx="87138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7afbd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По обе стороны океана лежат развитые в хозяйственном отношении страны.     Через Атлантику проходят самые важные морские пути. С незапамятных времён Атлантический океан – место интенсивного рыболовного и зверобойного промыс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7afbd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Природные условия Атлантики благоприятны для развития жизни, поэтому из всех океанов он самый продуктивный. Большая часть улова рыбы и добычи морских продуктов приходится на северную часть океа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7afbd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Шельфы Атлантического океана богаты месторождениям нефти и других полезных ископаем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1" dur="125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125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1" dur="125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4" descr="Панамский  канал.jpg"/>
          <p:cNvPicPr/>
          <p:nvPr/>
        </p:nvPicPr>
        <p:blipFill>
          <a:blip r:embed="rId1"/>
          <a:stretch/>
        </p:blipFill>
        <p:spPr>
          <a:xfrm>
            <a:off x="2023920" y="115920"/>
            <a:ext cx="5121360" cy="301320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5" descr="Атлантический океан 9.jpeg"/>
          <p:cNvPicPr/>
          <p:nvPr/>
        </p:nvPicPr>
        <p:blipFill>
          <a:blip r:embed="rId2"/>
          <a:stretch/>
        </p:blipFill>
        <p:spPr>
          <a:xfrm>
            <a:off x="4776840" y="4265640"/>
            <a:ext cx="4367160" cy="25923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6" descr="Семга Атлантического океана.jpg"/>
          <p:cNvPicPr/>
          <p:nvPr/>
        </p:nvPicPr>
        <p:blipFill>
          <a:blip r:embed="rId3"/>
          <a:stretch/>
        </p:blipFill>
        <p:spPr>
          <a:xfrm>
            <a:off x="4680" y="4076640"/>
            <a:ext cx="4579920" cy="25923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7"/>
          <p:cNvSpPr/>
          <p:nvPr/>
        </p:nvSpPr>
        <p:spPr>
          <a:xfrm>
            <a:off x="2771640" y="3129120"/>
            <a:ext cx="32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Транспорт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пу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771480" y="40766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Рыбный  промысе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4786200" y="52149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Рекреационные  ресур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1" descr="2"/>
          <p:cNvPicPr/>
          <p:nvPr/>
        </p:nvPicPr>
        <p:blipFill>
          <a:blip r:embed="rId1"/>
          <a:stretch/>
        </p:blipFill>
        <p:spPr>
          <a:xfrm>
            <a:off x="1857240" y="1314360"/>
            <a:ext cx="4602240" cy="5543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Добыча нефти в океане"/>
          <p:cNvPicPr/>
          <p:nvPr/>
        </p:nvPicPr>
        <p:blipFill>
          <a:blip r:embed="rId2"/>
          <a:stretch/>
        </p:blipFill>
        <p:spPr>
          <a:xfrm>
            <a:off x="5003640" y="3933720"/>
            <a:ext cx="3673800" cy="2756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Рыболовство"/>
          <p:cNvPicPr/>
          <p:nvPr/>
        </p:nvPicPr>
        <p:blipFill>
          <a:blip r:embed="rId3"/>
          <a:stretch/>
        </p:blipFill>
        <p:spPr>
          <a:xfrm>
            <a:off x="228600" y="409572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12"/>
          <p:cNvSpPr/>
          <p:nvPr/>
        </p:nvSpPr>
        <p:spPr>
          <a:xfrm>
            <a:off x="4495680" y="18288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13"/>
          <p:cNvSpPr/>
          <p:nvPr/>
        </p:nvSpPr>
        <p:spPr>
          <a:xfrm>
            <a:off x="5181480" y="23623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15"/>
          <p:cNvSpPr/>
          <p:nvPr/>
        </p:nvSpPr>
        <p:spPr>
          <a:xfrm>
            <a:off x="1981080" y="25909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16"/>
          <p:cNvSpPr/>
          <p:nvPr/>
        </p:nvSpPr>
        <p:spPr>
          <a:xfrm>
            <a:off x="2362320" y="32767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21"/>
          <p:cNvSpPr/>
          <p:nvPr/>
        </p:nvSpPr>
        <p:spPr>
          <a:xfrm>
            <a:off x="5105520" y="38862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4572000" y="25146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4952880" y="22860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29"/>
          <p:cNvSpPr/>
          <p:nvPr/>
        </p:nvSpPr>
        <p:spPr>
          <a:xfrm>
            <a:off x="4419720" y="2133720"/>
            <a:ext cx="7596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2133720" y="2438280"/>
            <a:ext cx="152280" cy="1526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AutoShape 32"/>
          <p:cNvSpPr/>
          <p:nvPr/>
        </p:nvSpPr>
        <p:spPr>
          <a:xfrm>
            <a:off x="2286000" y="2895480"/>
            <a:ext cx="152280" cy="1526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2438280" y="31240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34"/>
          <p:cNvSpPr/>
          <p:nvPr/>
        </p:nvSpPr>
        <p:spPr>
          <a:xfrm>
            <a:off x="4495680" y="27432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AutoShape 37"/>
          <p:cNvSpPr/>
          <p:nvPr/>
        </p:nvSpPr>
        <p:spPr>
          <a:xfrm>
            <a:off x="5029200" y="2438280"/>
            <a:ext cx="152280" cy="152640"/>
          </a:xfrm>
          <a:prstGeom prst="smileyFace">
            <a:avLst>
              <a:gd name="adj" fmla="val 9282"/>
            </a:avLst>
          </a:prstGeom>
          <a:solidFill>
            <a:srgbClr val="ff99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40"/>
          <p:cNvSpPr/>
          <p:nvPr/>
        </p:nvSpPr>
        <p:spPr>
          <a:xfrm>
            <a:off x="441360" y="1905120"/>
            <a:ext cx="244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" name="Group 53"/>
          <p:cNvGrpSpPr/>
          <p:nvPr/>
        </p:nvGrpSpPr>
        <p:grpSpPr>
          <a:xfrm>
            <a:off x="6365880" y="479520"/>
            <a:ext cx="2674080" cy="2153880"/>
            <a:chOff x="6365880" y="479520"/>
            <a:chExt cx="2674080" cy="2153880"/>
          </a:xfrm>
        </p:grpSpPr>
        <p:sp>
          <p:nvSpPr>
            <p:cNvPr id="320" name="Text Box 43"/>
            <p:cNvSpPr/>
            <p:nvPr/>
          </p:nvSpPr>
          <p:spPr>
            <a:xfrm>
              <a:off x="6959520" y="479520"/>
              <a:ext cx="1933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030a0"/>
                  </a:solidFill>
                  <a:latin typeface="Georgia"/>
                </a:rPr>
                <a:t>Добыча нефт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Text Box 45"/>
            <p:cNvSpPr/>
            <p:nvPr/>
          </p:nvSpPr>
          <p:spPr>
            <a:xfrm>
              <a:off x="6692040" y="930960"/>
              <a:ext cx="23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030a0"/>
                  </a:solidFill>
                  <a:latin typeface="Georgia"/>
                </a:rPr>
                <a:t>Соляные промыс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Text Box 47"/>
            <p:cNvSpPr/>
            <p:nvPr/>
          </p:nvSpPr>
          <p:spPr>
            <a:xfrm>
              <a:off x="6835320" y="1319760"/>
              <a:ext cx="2192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7030a0"/>
                  </a:solidFill>
                  <a:latin typeface="Times New Roman"/>
                </a:rPr>
                <a:t>Опреснительные станци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AutoShape 48"/>
            <p:cNvSpPr/>
            <p:nvPr/>
          </p:nvSpPr>
          <p:spPr>
            <a:xfrm>
              <a:off x="6365880" y="490680"/>
              <a:ext cx="326160" cy="188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49"/>
            <p:cNvSpPr/>
            <p:nvPr/>
          </p:nvSpPr>
          <p:spPr>
            <a:xfrm>
              <a:off x="6365880" y="1023840"/>
              <a:ext cx="326160" cy="24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Text Box 51"/>
          <p:cNvSpPr/>
          <p:nvPr/>
        </p:nvSpPr>
        <p:spPr>
          <a:xfrm>
            <a:off x="746280" y="16876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46"/>
          <p:cNvSpPr/>
          <p:nvPr/>
        </p:nvSpPr>
        <p:spPr>
          <a:xfrm>
            <a:off x="6516720" y="1773360"/>
            <a:ext cx="285840" cy="23472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4029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  <a:ea typeface="Arial"/>
              </a:rPr>
              <a:t>Цель 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80726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изучить  географическое   положение, историю     исследования,  особенности  природы, хозяйственное использование Атлантического  океан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7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750"/>
                            </p:stCondLst>
                            <p:childTnLst>
                              <p:par>
                                <p:cTn id="9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750"/>
                            </p:stCondLst>
                            <p:childTnLst>
                              <p:par>
                                <p:cTn id="13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Экологические пробл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8" name="Содержимое 3" descr="Загрязнение Атлантического океана 1.jpg"/>
          <p:cNvPicPr/>
          <p:nvPr/>
        </p:nvPicPr>
        <p:blipFill>
          <a:blip r:embed="rId1"/>
          <a:stretch/>
        </p:blipFill>
        <p:spPr>
          <a:xfrm>
            <a:off x="1857240" y="12859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714240" y="55720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Ежегодно   в   Атлантический  океан    попадают   десятки миллионов   тонн   вредных    токсичных    веще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0" dur="1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Домашнее   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13840" y="1499760"/>
            <a:ext cx="86439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§ 19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Задание   № 2,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Подготовить  сообщение  о необычных явления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Атлантического  океан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Georgia"/>
              </a:rPr>
              <a:t>           </a:t>
            </a: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Информационные ресурсы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krugosvet.ru/enc/Earth_sciences/geologiya/ATLANTICH</a:t>
            </a:r>
            <a:r>
              <a:rPr b="0" lang="ru-RU" sz="1800" spc="-1" strike="noStrike">
                <a:solidFill>
                  <a:srgbClr val="7030a0"/>
                </a:solidFill>
                <a:latin typeface="Georgia"/>
              </a:rPr>
              <a:t>  ESKI_OKEAN.html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 http://www.privateers.ru/notorious-persons/columbus.html</a:t>
            </a:r>
            <a:r>
              <a:rPr b="0" lang="ru-RU" sz="1800" spc="-1" strike="noStrike" u="sng">
                <a:solidFill>
                  <a:srgbClr val="7030a0"/>
                </a:solidFill>
                <a:uFillTx/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 https://olkpeace.org/forum/viewtopic.php?f=51&amp;t=63808&amp;start=3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Georgia"/>
              </a:rPr>
              <a:t> </a:t>
            </a:r>
            <a:r>
              <a:rPr b="0" lang="ru-RU" sz="1800" spc="-1" strike="noStrike" u="sng">
                <a:solidFill>
                  <a:srgbClr val="7030a0"/>
                </a:solidFill>
                <a:uFillTx/>
                <a:latin typeface="Georgia"/>
              </a:rPr>
              <a:t>http://planetolog.ru/map-ocean-zoom.php?ocean=AT&amp;id=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Georgia"/>
              </a:rPr>
              <a:t>http://realnoeblyndelo.ucoz.com/news/2011-01-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Georgia"/>
              </a:rPr>
              <a:t> </a:t>
            </a:r>
            <a:r>
              <a:rPr b="0" lang="ru-RU" sz="1800" spc="-1" strike="noStrike" u="sng">
                <a:solidFill>
                  <a:srgbClr val="7030a0"/>
                </a:solidFill>
                <a:uFillTx/>
                <a:latin typeface="Georgia"/>
              </a:rPr>
              <a:t>http://www.calend.ru/event/5010/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030a0"/>
                </a:solidFill>
                <a:uFillTx/>
                <a:latin typeface="Georgia"/>
              </a:rPr>
              <a:t> </a:t>
            </a:r>
            <a:r>
              <a:rPr b="0" lang="ru-RU" sz="1800" spc="-1" strike="noStrike" u="sng">
                <a:solidFill>
                  <a:srgbClr val="7030a0"/>
                </a:solidFill>
                <a:uFillTx/>
                <a:latin typeface="Georgia"/>
              </a:rPr>
              <a:t>http://www.zoopage.ru/stat.php?idstat=237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uchise.ru/pars_docs/refs/241/240322/img5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.redigo.ru/c600x338/503742a7beca7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900igr.net/thumb/istorija/Egipet. files/0024-083-Sfinksy-v-drevnem-egipte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uchise.ru/pars_docs/refs/241/240322/img8.jp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ttp://katyaburg.ru/sites/default/files/pictures/krasota_prirody/karskoe_more_foto_09.jpe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34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лан уро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Географическое положение океа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История  исследования  океа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Происхож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Рельеф  д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Особенности  природ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Хозяйственная  деятельность  в  оке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5840" y="291960"/>
            <a:ext cx="85723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eorgia"/>
                <a:ea typeface="Tahoma"/>
              </a:rPr>
              <a:t>Географическое положение              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Georgia"/>
                <a:ea typeface="Tahoma"/>
              </a:rPr>
              <a:t>                     океан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Содержимое 4" descr="Карта Атлантического океана 2.gif"/>
          <p:cNvPicPr/>
          <p:nvPr/>
        </p:nvPicPr>
        <p:blipFill>
          <a:blip r:embed="rId1"/>
          <a:stretch/>
        </p:blipFill>
        <p:spPr>
          <a:xfrm>
            <a:off x="119160" y="1557360"/>
            <a:ext cx="3848040" cy="5002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648320" y="1905120"/>
            <a:ext cx="40384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4284720" y="1428840"/>
            <a:ext cx="46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Атлантический океан вытянут от субарктических широт до Антарктиды. Наибольшей ширины океан достигает в умеренных широтах и сужается к экватору.  Береговая линия океана сильно расчленена в Северном полушарии, а в Южном изрезана слабо. Большая часть островов лежит близ матер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rebuchet MS"/>
              </a:rPr>
              <a:t>Из истории исследования океана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492000" y="3284640"/>
            <a:ext cx="5651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Georgia"/>
              </a:rPr>
              <a:t>С древнейших времён Атлантический океан стал осваиваться человеком. На его берегах в разные эпохи возникли центры мореплавания в Древней Греции, Карфагене, Скандинавии. Его воды омывали легендарную Атлантиду, о географическом положении которой в океане до сих пор спорят учёны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024000" cy="22651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4"/>
          <p:cNvSpPr/>
          <p:nvPr/>
        </p:nvSpPr>
        <p:spPr>
          <a:xfrm>
            <a:off x="685440" y="119700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ревней Гре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8"/>
          <p:cNvSpPr/>
          <p:nvPr/>
        </p:nvSpPr>
        <p:spPr>
          <a:xfrm>
            <a:off x="6253560" y="90792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рега Карфаге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13" descr="http://static.tonkosti.ru/images/thumb/2/23/%D0%92%D0%B0%D0%B9%D1%82_%D0%91%D0%B8%D1%87%2C_Grotlesanden_%D0%B2_Bremanger%2C_%D0%9D%D0%BE%D1%80%D0%B2%D0%B5%D0%B3%D0%B8%D1%8F.jpg/271px-%D0%92%D0%B0%D0%B9%D1%82_%D0%91%D0%B8%D1%87%2C_Grotlesanden_%D0%B2_Bremanger%2C_%D0%9D%D0%BE%D1%80%D0%B2%D0%B5%D0%B3%D0%B8%D1%8F.jpg"/>
          <p:cNvPicPr/>
          <p:nvPr/>
        </p:nvPicPr>
        <p:blipFill>
          <a:blip r:embed="rId2"/>
          <a:stretch/>
        </p:blipFill>
        <p:spPr>
          <a:xfrm>
            <a:off x="428760" y="4071960"/>
            <a:ext cx="3225600" cy="21430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6"/>
          <p:cNvSpPr/>
          <p:nvPr/>
        </p:nvSpPr>
        <p:spPr>
          <a:xfrm>
            <a:off x="1006560" y="414324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кандинав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15" descr="&amp;Kcy;&amp;acy;&amp;rcy;&amp;fcy;&amp;acy;&amp;gcy;&amp;iecy;&amp;ncy;, &amp;Tcy;&amp;ucy;&amp;ncy;&amp;icy;&amp;scy;, &amp;Acy;&amp;fcy;&amp;rcy;&amp;icy;&amp;kcy;&amp;acy;"/>
          <p:cNvPicPr/>
          <p:nvPr/>
        </p:nvPicPr>
        <p:blipFill>
          <a:blip r:embed="rId3"/>
          <a:stretch/>
        </p:blipFill>
        <p:spPr>
          <a:xfrm>
            <a:off x="4500720" y="1214280"/>
            <a:ext cx="3803400" cy="2143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2060640"/>
            <a:ext cx="591516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357440" y="1214280"/>
            <a:ext cx="4257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428760" y="2571840"/>
            <a:ext cx="5111640" cy="3816360"/>
          </a:xfrm>
          <a:prstGeom prst="rect">
            <a:avLst/>
          </a:prstGeom>
          <a:ln w="0">
            <a:noFill/>
          </a:ln>
        </p:spPr>
      </p:pic>
      <p:sp>
        <p:nvSpPr>
          <p:cNvPr id="242" name="Заголовок 1"/>
          <p:cNvSpPr/>
          <p:nvPr/>
        </p:nvSpPr>
        <p:spPr>
          <a:xfrm>
            <a:off x="684360" y="412920"/>
            <a:ext cx="822960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rebuchet MS"/>
              </a:rPr>
              <a:t>Первыми  Атлантику  пересекли  викинг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Объект 2"/>
          <p:cNvSpPr/>
          <p:nvPr/>
        </p:nvSpPr>
        <p:spPr>
          <a:xfrm>
            <a:off x="5219640" y="1700280"/>
            <a:ext cx="36943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afbd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С эпохи Великих географических открытий Атлантический океан стал главным водным путём на Зем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1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468360" y="981000"/>
            <a:ext cx="48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Picture 4" descr="01"/>
          <p:cNvPicPr/>
          <p:nvPr/>
        </p:nvPicPr>
        <p:blipFill>
          <a:blip r:embed="rId1"/>
          <a:stretch/>
        </p:blipFill>
        <p:spPr>
          <a:xfrm>
            <a:off x="5651640" y="404640"/>
            <a:ext cx="2954160" cy="4034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6149880" y="4500720"/>
            <a:ext cx="22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Христофор Колум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69"/>
          <p:cNvPicPr/>
          <p:nvPr/>
        </p:nvPicPr>
        <p:blipFill>
          <a:blip r:embed="rId2"/>
          <a:stretch/>
        </p:blipFill>
        <p:spPr>
          <a:xfrm>
            <a:off x="0" y="2060640"/>
            <a:ext cx="3000240" cy="36608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7"/>
          <p:cNvSpPr/>
          <p:nvPr/>
        </p:nvSpPr>
        <p:spPr>
          <a:xfrm>
            <a:off x="214200" y="184320"/>
            <a:ext cx="500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Христафор Колумб –  первый    мореплаватель    эпохи   Великих    географических    открытий,    который отважился пересечь    Атлантический  оке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Прямоугольник 8"/>
          <p:cNvSpPr/>
          <p:nvPr/>
        </p:nvSpPr>
        <p:spPr>
          <a:xfrm>
            <a:off x="2935440" y="4902120"/>
            <a:ext cx="32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Корабли экспедиции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Христофора Колумб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500040" y="585792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Начало  комплексным  исследованиям  Атлантики было положено плаванием «Челленджера» в конце </a:t>
            </a:r>
            <a:r>
              <a:rPr b="0" lang="en-US" sz="2400" spc="-1" strike="noStrike">
                <a:solidFill>
                  <a:srgbClr val="7030a0"/>
                </a:solidFill>
                <a:latin typeface="Georgia"/>
              </a:rPr>
              <a:t>XIX </a:t>
            </a: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eorgia"/>
              </a:rPr>
              <a:t>Происхождение  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Georgia"/>
              </a:rPr>
              <a:t>Атлантического  океан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48428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86120" indent="-1303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Атлантический океан  - самый  молодой, образовалс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Georgia"/>
              </a:rPr>
              <a:t>около  160  млн.  лет   назад  при  распаде Гондван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Georgia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186120" indent="-130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Содержимое 4" descr="Карта Атлантического океана 3.jpeg"/>
          <p:cNvPicPr/>
          <p:nvPr/>
        </p:nvPicPr>
        <p:blipFill>
          <a:blip r:embed="rId1"/>
          <a:stretch/>
        </p:blipFill>
        <p:spPr>
          <a:xfrm>
            <a:off x="5738760" y="3284640"/>
            <a:ext cx="1857600" cy="2457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179280" y="2421000"/>
            <a:ext cx="5832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Рельеф его дна не так сложен, как в Тих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океане. Через всю Атлантику почти по меридиан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тянулся гигантский 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Срединно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Атлантический  хреб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а  севере  океана  хребет   выходит на  поверхность – это  остров  Исланд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Хребет делит ложе океана на две почт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вные  части.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Ложе     океана      занят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кеаническими  равнинами,  подводны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днятия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К берегам Европы и Северной Америк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легают обширные шельфы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1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1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1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" dur="1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1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1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1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1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1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" dur="1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rebuchet MS"/>
              </a:rPr>
              <a:t>Особенности природы Атлантический  океа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71360" y="2286000"/>
            <a:ext cx="71434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торой  по  величине  океа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лощадь – 91, 6 млн.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ем  -  329,7  млн. к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редняя  глубина  -  3 600 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ибольшая  глубина  -  8 742 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желоб  Пуэрто-Рик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ster</cp:lastModifiedBy>
  <dcterms:modified xsi:type="dcterms:W3CDTF">2017-07-10T07:45:27Z</dcterms:modified>
  <cp:revision>172</cp:revision>
  <dc:subject/>
  <dc:title>PowerPoint Presentation</dc:title>
</cp:coreProperties>
</file>